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EB12-4E1B-49DD-9F56-824E8A59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F7E2-26ED-4F38-89CE-7DDE0CAF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CC98-AB76-4AE1-9ABF-B45B502A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7E30-733C-4587-A5CD-EA94ED9FE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AB13-6F00-4DDD-A1DE-57CA192D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DCEE-558E-4B6C-A7D4-CF44EAA4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D823-DFB1-4935-BD69-CDED7E4B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4FD8-0B0F-4572-807C-AF5575F3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807B-A6A0-475A-82AB-25508E7D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C8C1-94FC-457A-8343-2F5EC181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224F-902C-4E97-8E41-946DDC7D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B8FF-41D0-49A8-8DE1-6C80AFC6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8DB8-48D4-4582-8E1D-D6098D5A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F66C-4C6F-4B06-9980-F0572022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7C53-9F88-4538-B12B-6D28042D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881B-E1C7-432D-90F7-7F6B075D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674A-D223-484C-873E-67A650A1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F02AB-48EA-4079-86BC-47A3B277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23975-CBAA-4C6A-9C88-DC5893E9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5325D-938B-4ABE-A750-10B0716B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DF931-3BCE-4767-AD4E-649BE122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C07D8-2402-4AAA-97D8-9484E3B5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EE7E-99F6-4ADA-974C-5AA15FB0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4B6FB-7AA5-4ECE-A633-A16060A1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D5B46-9731-41F2-9413-F493F426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B36A8-B255-477F-9636-2C4393A5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A2C52-CF84-4001-B5C8-51A68512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3F26A-1D26-4961-82CE-431149E7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76AE5-7C48-4CC1-B8A5-F9725C5A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020F8-23FA-48EA-B9CB-D3ED9C75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C7FD5-7E84-4B9D-9E25-C21A36B5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BA849-26BF-4A63-A4EF-B0259B27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BAAA4-5571-41D9-8A2C-852ACA1C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9C29-478D-471E-B4D4-E6EA66A4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0D934-1610-4D3C-A61E-1D75A02C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0433B-728A-4B99-91A3-F88D2273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5ED3B-234A-41C2-AF49-475B842E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98E32-1AD1-4FD6-BB4A-087B9601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D214D-4FA7-4D45-9AEF-9D4AED0F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85249-7BC9-4A12-8B72-2992CDE9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3FCB5-EEFB-4CE5-B74C-63628AAC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97406-C0AD-44F8-A236-CEB90F66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F2EA6-D452-46BA-9EDB-93FC9745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73343-DB62-40D0-857E-2DD16BB2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AD87-3994-4E6D-9F1B-F2F9B170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B6BE9-F343-4F16-BE2E-6E2FDCAD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AA508-E80A-432E-B8CD-475F57D9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7F0A7-695E-42D2-885B-7AB676AB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0485E-D6E4-4239-AE3A-FB7C6BFB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4BC57-6A53-42C6-9245-171F8719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1BC4F-751E-42A5-8D18-7A67ADF1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C62E4-F9B0-4CED-898F-20BB15F2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FD5B5-543B-4F12-BB5E-903134F2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E0420-A69F-4BE2-BC1C-44185332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99A6C-D60B-45B0-93D4-8C1E9F9A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F098-2D34-4707-96FE-EBCD332A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24C1A-928C-418D-8D76-4CC0A882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2B212-7F8E-4622-9671-319BC2F4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1C423-7BA9-457C-A192-9E17EC35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F2339-CAF6-45D0-89C4-FFAA228D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5107A-BEAD-467C-A170-3CEB5E03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8FACD-1731-4B52-9488-7A3B23C2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00EBF-3C8C-4EE5-92E1-183C503C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26A31-BF43-41F8-B9ED-40F6F4A2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F3930-7A89-40E1-B3A6-E6B11BF4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79A27-EAF7-48D7-BB20-B98E965C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9429-7A42-4318-B4C3-96580B8A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B1F2F-463A-43E7-A3A3-753C63D0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22284-A861-4572-AE94-7513B79B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67EFC-4DFC-4DED-8AE5-05D3B12C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B40C7-E9AD-4FDD-BC7E-CBB42B9E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ED6A3-256D-40A2-B41E-8591EA46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389A9-2C35-4495-9119-61007EFF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EA2E8-FB1D-4314-8FE9-556B7EF3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DB295-F7FE-4090-9917-E2875859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79AB2-0661-4C1F-9520-AE70621B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325E2-96AF-46C0-BEDB-47FF88F1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CC06-3FA3-43C3-9E39-8F7CADC4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EFB7C-361C-451D-A251-679806B8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7BC7E-85AF-4E84-9E23-6DE96290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17CD8-4350-4F66-B520-9193862B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B7091-C35A-41C9-941B-5DF8ADD0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7778A-85C1-44EB-B904-9C66243B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6C465-64EB-4FE2-BF05-18BF731B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02896-F41F-4C74-9122-7195D3D6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BEC1C-05E8-46F6-9E4A-D88B8848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820A3-E1D5-4FFE-9FAB-5115B952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5BDA6-4CD1-42F3-831C-C467E207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BCFD-E7EC-405F-9C23-26BF365F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29609-24C1-4812-977A-05907D97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05C53-081C-44D6-AF9B-68C099C2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24029-D4F5-4337-AA23-5A229D11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624D1-6144-490F-9E21-85367A89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ADEED-93C7-4423-85AF-8511BA1E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E4645-9675-48BD-A235-DEE5911E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6659B-230C-49C5-9705-69AF648F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D1D8-1F53-4919-AB76-D5018D648A2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44a4"/>
              </a:gs>
              <a:gs pos="50000">
                <a:srgbClr val="3e81e9"/>
              </a:gs>
              <a:gs pos="100000">
                <a:srgbClr val="0044a4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cb2e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5DB5-A268-41DC-8F7C-608B59E970F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A37D-2BAF-40BB-8DC2-1E715A7B27D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CE9D-BC5B-4D6D-85F7-27994F7ADF0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7DC6-2C5F-40A0-83CA-31FFED88480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8F47-9BB4-47A0-8C1D-31C5CCAD095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F129-F051-41E2-9F92-023ECAD68DA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7C38-09A4-4FA3-80B1-26A94C7E996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hyperlink" Target="http://www.channelview.isd.esc4.net/technology/PDF/office2007.pdf" TargetMode="External"/><Relationship Id="rId6" Type="http://schemas.openxmlformats.org/officeDocument/2006/relationships/hyperlink" Target="http://www.channelview.isd.esc4.net/technology/PDF/office2007saving.pdf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4617b"/>
                </a:solidFill>
                <a:latin typeface="Lucida Sans Unicode"/>
              </a:rPr>
              <a:t>What’s New - Wor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6" name="Content Placeholder 2"/>
          <p:cNvSpPr/>
          <p:nvPr/>
        </p:nvSpPr>
        <p:spPr>
          <a:xfrm>
            <a:off x="457200" y="1481040"/>
            <a:ext cx="82296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use over item on ribbon to display explanation/defini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067200" cy="26956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"/>
          <p:cNvPicPr/>
          <p:nvPr/>
        </p:nvPicPr>
        <p:blipFill>
          <a:blip r:embed="rId3"/>
          <a:stretch/>
        </p:blipFill>
        <p:spPr>
          <a:xfrm>
            <a:off x="5257800" y="2971800"/>
            <a:ext cx="20383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0" name="Content Placeholder 2"/>
          <p:cNvSpPr/>
          <p:nvPr/>
        </p:nvSpPr>
        <p:spPr>
          <a:xfrm>
            <a:off x="457200" y="1295280"/>
            <a:ext cx="822960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 part of standard ribbon ta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play only when object on page is double click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1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7805880" cy="552240"/>
          </a:xfrm>
          <a:prstGeom prst="rect">
            <a:avLst/>
          </a:prstGeom>
          <a:ln w="0">
            <a:noFill/>
          </a:ln>
        </p:spPr>
      </p:pic>
      <p:sp>
        <p:nvSpPr>
          <p:cNvPr id="412" name="Content Placeholder 2"/>
          <p:cNvSpPr/>
          <p:nvPr/>
        </p:nvSpPr>
        <p:spPr>
          <a:xfrm>
            <a:off x="2133720" y="42670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Sample: Table T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Content Placeholder 2"/>
          <p:cNvSpPr/>
          <p:nvPr/>
        </p:nvSpPr>
        <p:spPr>
          <a:xfrm>
            <a:off x="609480" y="28954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Sample: Picture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3"/>
          <a:stretch/>
        </p:blipFill>
        <p:spPr>
          <a:xfrm>
            <a:off x="2362320" y="4724280"/>
            <a:ext cx="5443560" cy="6811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"/>
          <p:cNvPicPr/>
          <p:nvPr/>
        </p:nvPicPr>
        <p:blipFill>
          <a:blip r:embed="rId4"/>
          <a:stretch/>
        </p:blipFill>
        <p:spPr>
          <a:xfrm>
            <a:off x="2362320" y="5562720"/>
            <a:ext cx="631512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7" name="Content Placeholder 2"/>
          <p:cNvSpPr/>
          <p:nvPr/>
        </p:nvSpPr>
        <p:spPr>
          <a:xfrm>
            <a:off x="457200" y="1481040"/>
            <a:ext cx="82296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use over format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nge to se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vi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es not chang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att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apply chan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36576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Content Placeholder 2"/>
          <p:cNvSpPr/>
          <p:nvPr/>
        </p:nvSpPr>
        <p:spPr>
          <a:xfrm>
            <a:off x="457200" y="1481040"/>
            <a:ext cx="82296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xt formatting toolbar displays on right cli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2895480" y="2895480"/>
            <a:ext cx="55627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3" name=""/>
          <p:cNvGraphicFramePr/>
          <p:nvPr/>
        </p:nvGraphicFramePr>
        <p:xfrm>
          <a:off x="457200" y="1481040"/>
          <a:ext cx="8229600" cy="1490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le Format Office 97-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le Format Office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.d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.doc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374" name="Picture 2" descr=""/>
          <p:cNvPicPr/>
          <p:nvPr/>
        </p:nvPicPr>
        <p:blipFill>
          <a:blip r:embed="rId2"/>
          <a:srcRect l="10979" t="0" r="12325" b="0"/>
          <a:stretch/>
        </p:blipFill>
        <p:spPr>
          <a:xfrm>
            <a:off x="1143000" y="1981080"/>
            <a:ext cx="685800" cy="7225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3"/>
          <a:srcRect l="26975" t="20897" r="19116" b="18695"/>
          <a:stretch/>
        </p:blipFill>
        <p:spPr>
          <a:xfrm>
            <a:off x="3352680" y="1981080"/>
            <a:ext cx="598680" cy="685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docx"/>
          <p:cNvPicPr/>
          <p:nvPr/>
        </p:nvPicPr>
        <p:blipFill>
          <a:blip r:embed="rId4"/>
          <a:stretch/>
        </p:blipFill>
        <p:spPr>
          <a:xfrm>
            <a:off x="5562720" y="19810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77" name="TextBox 13"/>
          <p:cNvSpPr/>
          <p:nvPr/>
        </p:nvSpPr>
        <p:spPr>
          <a:xfrm>
            <a:off x="533520" y="3657600"/>
            <a:ext cx="792468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olving Common Conversion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9aaf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Office 2007 Converter =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Lucida Sans Unicode"/>
                <a:hlinkClick r:id="rId5"/>
              </a:rPr>
              <a:t>Tech Tip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9aaf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aving as Lower Version =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Lucida Sans Unicode"/>
                <a:hlinkClick r:id="rId6"/>
              </a:rPr>
              <a:t>Tech Tip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"/>
          <p:cNvPicPr/>
          <p:nvPr/>
        </p:nvPicPr>
        <p:blipFill>
          <a:blip r:embed="rId2"/>
          <a:stretch/>
        </p:blipFill>
        <p:spPr>
          <a:xfrm>
            <a:off x="5943600" y="3429000"/>
            <a:ext cx="2743200" cy="3151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"/>
          <p:cNvPicPr/>
          <p:nvPr/>
        </p:nvPicPr>
        <p:blipFill>
          <a:blip r:embed="rId3"/>
          <a:stretch/>
        </p:blipFill>
        <p:spPr>
          <a:xfrm>
            <a:off x="914400" y="1600200"/>
            <a:ext cx="5181480" cy="21398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2209320"/>
            <a:ext cx="1447920" cy="6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200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Content Placeholder 2"/>
          <p:cNvSpPr/>
          <p:nvPr/>
        </p:nvSpPr>
        <p:spPr>
          <a:xfrm>
            <a:off x="4952880" y="4724280"/>
            <a:ext cx="198144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reviou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vers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more drop down men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cep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ffice Butto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Quick Access Toolbar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>
            <a:off x="5410080" y="2438280"/>
            <a:ext cx="24098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4617b"/>
                </a:solidFill>
                <a:latin typeface="Lucida Sans Unicode"/>
              </a:rPr>
              <a:t>Office Butt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Content Placeholder 2"/>
          <p:cNvSpPr/>
          <p:nvPr/>
        </p:nvSpPr>
        <p:spPr>
          <a:xfrm>
            <a:off x="457200" y="2057400"/>
            <a:ext cx="44956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laces “File” me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4533840" y="1371600"/>
            <a:ext cx="461016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0" name="Content Placeholder 2"/>
          <p:cNvSpPr/>
          <p:nvPr/>
        </p:nvSpPr>
        <p:spPr>
          <a:xfrm>
            <a:off x="457200" y="1481040"/>
            <a:ext cx="82296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plays common task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be customiz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2"/>
          <a:stretch/>
        </p:blipFill>
        <p:spPr>
          <a:xfrm>
            <a:off x="5181480" y="2514600"/>
            <a:ext cx="323856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oose ribbon tab for type of command you wish to perfo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de/Display Ribb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TRL+F1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Quick Access menu comman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2743200" y="609480"/>
            <a:ext cx="606744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6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848360" cy="5619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7920000" cy="5572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"/>
          <p:cNvPicPr/>
          <p:nvPr/>
        </p:nvPicPr>
        <p:blipFill>
          <a:blip r:embed="rId3"/>
          <a:stretch/>
        </p:blipFill>
        <p:spPr>
          <a:xfrm>
            <a:off x="533520" y="3886200"/>
            <a:ext cx="7915320" cy="5475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"/>
          <p:cNvPicPr/>
          <p:nvPr/>
        </p:nvPicPr>
        <p:blipFill>
          <a:blip r:embed="rId4"/>
          <a:stretch/>
        </p:blipFill>
        <p:spPr>
          <a:xfrm>
            <a:off x="533520" y="5181480"/>
            <a:ext cx="7920000" cy="552600"/>
          </a:xfrm>
          <a:prstGeom prst="rect">
            <a:avLst/>
          </a:prstGeom>
          <a:ln w="0">
            <a:noFill/>
          </a:ln>
        </p:spPr>
      </p:pic>
      <p:pic>
        <p:nvPicPr>
          <p:cNvPr id="399" name="Title 2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10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881840" cy="5526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7896240" cy="5526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3"/>
          <a:stretch/>
        </p:blipFill>
        <p:spPr>
          <a:xfrm>
            <a:off x="533520" y="3733920"/>
            <a:ext cx="7886520" cy="547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"/>
          <p:cNvPicPr/>
          <p:nvPr/>
        </p:nvPicPr>
        <p:blipFill>
          <a:blip r:embed="rId4"/>
          <a:stretch/>
        </p:blipFill>
        <p:spPr>
          <a:xfrm>
            <a:off x="1371600" y="5029200"/>
            <a:ext cx="7286760" cy="843120"/>
          </a:xfrm>
          <a:prstGeom prst="rect">
            <a:avLst/>
          </a:prstGeom>
          <a:ln w="0">
            <a:noFill/>
          </a:ln>
        </p:spPr>
      </p:pic>
      <p:pic>
        <p:nvPicPr>
          <p:cNvPr id="404" name="Title 2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20:15:27Z</dcterms:created>
  <dc:creator>Dina Rich</dc:creator>
  <dc:description/>
  <dc:language>en-US</dc:language>
  <cp:lastModifiedBy>Dina Rich</cp:lastModifiedBy>
  <dcterms:modified xsi:type="dcterms:W3CDTF">2010-05-17T19:31:02Z</dcterms:modified>
  <cp:revision>13</cp:revision>
  <dc:subject/>
  <dc:title>Office 2007</dc:title>
</cp:coreProperties>
</file>